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5BB89-6478-44AE-AD95-7B867EAC2E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B2D86-1E59-4882-9EAE-D6BE543BA98D}"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A43B0-4E87-4513-8651-AA3CCA56B6A7}"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93E31-AF7D-4E39-B2E2-D7BDAC58775C}"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7D7A9-07E0-4F3A-ACEA-E04CED42741E}"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A3228-E645-4FF4-8435-78DFFB3BC446}"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3E4D8-7CF8-4837-94F9-32744DEEC3E0}"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50928-1606-4FD3-B518-256577C287D6}"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F0B2A-71FD-43A7-B2F7-AEA2E4EACA47}"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4D791-437A-4823-9C72-6739B5DAF65A}"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0B217-4AD4-427D-B5F3-C2AE3E3CB844}"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146CB-C375-40BC-9327-C47B5626FEAF}"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7FF85-DCA8-4CB4-B658-5DAF0ADB5AD3}"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07762-2DB2-4312-909D-D27468CD0ED0}"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AD265-8885-46DA-B6B7-4505F357B3B3}"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62F75-E357-4399-AFE8-D2793BAC0AB1}"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CC737-5E7F-46A7-B928-D55602D198D6}"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5E43E-5485-48AA-88E6-49535D5F4836}"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4CF2D-75A1-48EC-A3B0-38FCB066EB29}"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0F04C-0A47-4549-BEA0-439E0547A629}"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E04CE-C944-461A-9581-43C766108E2F}"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0F468-E31D-4922-8527-840830D89F03}"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F1A17-ADA8-4CFB-A974-D978DA5CD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08949-637B-49C4-BE60-0D2583DD3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C42675-C18C-412B-878F-AF7D4C567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DE6E3-E378-4D0E-985B-029106ECC3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0D6931-D5B9-4D9F-B930-560DB49AAE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89C20-D953-4EE2-84E1-B1F3E2BEFA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1B31F5-1D4D-461A-9219-5F7CF1F74A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B18C9C-8F28-4CB6-B643-C923E4614C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C409F5-5C4C-48A8-B9DB-D805EF189B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1F276-0479-4DF8-89A1-2CBAF74E7E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5430C-5C82-4126-80F9-A78EF1C04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573C2-A0BE-4B5B-AB95-AE8093A4C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B0A59-AEF0-4CA3-8124-5C24435E3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8A172-C851-4905-8D28-2A295F7EF7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1F765-81EC-43AC-8355-8958707CD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372222-8E35-4285-AFD0-DD3BEE7C9F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6C71F5-23C5-4ABC-B6E5-A96DB10739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63DBA-BAC1-4C87-A204-4CB45D3E2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CCDA6-A164-44DF-895F-59190422E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2A9E6-892C-40D3-94E3-F36D041EA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4F01F-19A4-4695-8D88-906E75163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131D6-0E24-46A9-86C3-49C7D1DBC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4AB67-3E09-48D7-B407-E4E6AC41A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39C4C-D887-43F5-AC60-A59C084425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1143000" cy="6856560"/>
            <a:chOff x="0" y="0"/>
            <a:chExt cx="1143000" cy="6856560"/>
          </a:xfrm>
        </p:grpSpPr>
        <p:sp>
          <p:nvSpPr>
            <p:cNvPr id="1" name="Rectangle 3"/>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Rectangle 4"/>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Picture 5" descr=""/>
            <p:cNvPicPr/>
            <p:nvPr/>
          </p:nvPicPr>
          <p:blipFill>
            <a:blip r:embed="rId3"/>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B9409-DC0E-486D-86B7-4A7BB8290B1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Group 2"/>
          <p:cNvGrpSpPr/>
          <p:nvPr/>
        </p:nvGrpSpPr>
        <p:grpSpPr>
          <a:xfrm>
            <a:off x="0" y="0"/>
            <a:ext cx="1828800" cy="6856560"/>
            <a:chOff x="0" y="0"/>
            <a:chExt cx="1828800" cy="6856560"/>
          </a:xfrm>
        </p:grpSpPr>
        <p:sp>
          <p:nvSpPr>
            <p:cNvPr id="46" name="Rectangle 3"/>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Rectangle 4"/>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Picture 5"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51" name="PlaceHolder 3"/>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2" name="PlaceHolder 4"/>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3" name="PlaceHolder 5"/>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2E095-BAEA-442F-A8E5-C3A72583F0DB}"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mailto:endres@doe.state.in.us" TargetMode="External"/><Relationship Id="rId2" Type="http://schemas.openxmlformats.org/officeDocument/2006/relationships/hyperlink" Target="mailto:gnettles@doe.state.in.us" TargetMode="External"/><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904760" y="1676520"/>
            <a:ext cx="6933960" cy="21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cKinney-Vento: A Key to Success</a:t>
            </a:r>
            <a:endParaRPr b="0" lang="en-US" sz="4400" spc="-1" strike="noStrike">
              <a:solidFill>
                <a:srgbClr val="ffcc66"/>
              </a:solidFill>
              <a:latin typeface="Times New Roman"/>
            </a:endParaRPr>
          </a:p>
        </p:txBody>
      </p:sp>
      <p:sp>
        <p:nvSpPr>
          <p:cNvPr id="98" name="PlaceHolder 2"/>
          <p:cNvSpPr>
            <a:spLocks noGrp="1"/>
          </p:cNvSpPr>
          <p:nvPr>
            <p:ph type="subTitle"/>
          </p:nvPr>
        </p:nvSpPr>
        <p:spPr>
          <a:xfrm>
            <a:off x="1911240" y="3968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cKinney-Vento Liaison Training</a:t>
            </a:r>
            <a:endParaRPr b="0" lang="en-US" sz="3200" spc="-1" strike="noStrike">
              <a:solidFill>
                <a:srgbClr val="eaeaea"/>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2003-2004</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auses</a:t>
            </a: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16"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ajor trends</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ising housing costs</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ising poverty rat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cKinney-Vento Act: Enrollment</a:t>
            </a:r>
            <a:endParaRPr b="0" lang="en-US" sz="4400" spc="-1" strike="noStrike">
              <a:solidFill>
                <a:srgbClr val="ffcc66"/>
              </a:solidFill>
              <a:latin typeface="Times New Roman"/>
            </a:endParaRPr>
          </a:p>
        </p:txBody>
      </p:sp>
      <p:sp>
        <p:nvSpPr>
          <p:cNvPr id="118" name="PlaceHolder 2"/>
          <p:cNvSpPr>
            <a:spLocks noGrp="1"/>
          </p:cNvSpPr>
          <p:nvPr>
            <p:ph/>
          </p:nvPr>
        </p:nvSpPr>
        <p:spPr>
          <a:xfrm>
            <a:off x="1219320" y="1600200"/>
            <a:ext cx="7772400" cy="449568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Enroll immediately, even when lacking documentation such as:</a:t>
            </a:r>
            <a:endParaRPr b="0" lang="en-US" sz="3200" spc="-1" strike="noStrike">
              <a:solidFill>
                <a:srgbClr val="eaeaea"/>
              </a:solidFill>
              <a:latin typeface="Times New Roman"/>
            </a:endParaRPr>
          </a:p>
          <a:p>
            <a:pPr marL="339480" indent="-3394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roof of residency</a:t>
            </a:r>
            <a:endParaRPr b="0" lang="en-US" sz="3200" spc="-1" strike="noStrike">
              <a:solidFill>
                <a:srgbClr val="eaeaea"/>
              </a:solidFill>
              <a:latin typeface="Times New Roman"/>
            </a:endParaRPr>
          </a:p>
          <a:p>
            <a:pPr marL="339480" indent="-3394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mmunizations or medical records</a:t>
            </a:r>
            <a:endParaRPr b="0" lang="en-US" sz="3200" spc="-1" strike="noStrike">
              <a:solidFill>
                <a:srgbClr val="eaeaea"/>
              </a:solidFill>
              <a:latin typeface="Times New Roman"/>
            </a:endParaRPr>
          </a:p>
          <a:p>
            <a:pPr marL="339480" indent="-3394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roof of guardianship</a:t>
            </a:r>
            <a:endParaRPr b="0" lang="en-US" sz="3200" spc="-1" strike="noStrike">
              <a:solidFill>
                <a:srgbClr val="eaeaea"/>
              </a:solidFill>
              <a:latin typeface="Times New Roman"/>
            </a:endParaRPr>
          </a:p>
          <a:p>
            <a:pPr marL="339480" indent="-3394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Birth certificates, school records, or other similar documents</a:t>
            </a:r>
            <a:endParaRPr b="0" lang="en-US" sz="3200" spc="-1" strike="noStrike">
              <a:solidFill>
                <a:srgbClr val="eaeaea"/>
              </a:solidFill>
              <a:latin typeface="Times New Roman"/>
            </a:endParaRPr>
          </a:p>
          <a:p>
            <a:pPr marL="339480" indent="-3394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Uniform or dress code requirement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ndiana Law</a:t>
            </a: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20"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mmunizations: Indiana Public Health Code requires:</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at each school keep immunization records</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at children who do not have records be given a waiver or have a schedule in place to receive immunizations or have a written religious objection</a:t>
            </a:r>
            <a:endParaRPr b="0" lang="en-US" sz="2800" spc="-1" strike="noStrike">
              <a:solidFill>
                <a:srgbClr val="eaeaea"/>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i="1" lang="en-US" sz="2400" spc="-1" strike="noStrike">
                <a:solidFill>
                  <a:srgbClr val="eaeaea"/>
                </a:solidFill>
                <a:latin typeface="Times New Roman"/>
              </a:rPr>
              <a:t>IC 20-8.1-7-9</a:t>
            </a:r>
            <a:endParaRPr b="0" lang="en-US" sz="24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ispute Resolution</a:t>
            </a: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22"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No child or youth may be expelled from a public school without due process, including a hearing </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chools have the right to investigate the legal residency of students </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hearing officer must be informed if the student is homeless and of the rights of homeless students </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Times New Roman"/>
              </a:rPr>
              <a:t>Indiana Compulsory Attendance Law, IC 20-8.1-3</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ispute Resolution cont’d</a:t>
            </a:r>
            <a:endParaRPr b="0" lang="en-US" sz="4400" spc="-1" strike="noStrike">
              <a:solidFill>
                <a:srgbClr val="ffcc66"/>
              </a:solidFill>
              <a:latin typeface="Times New Roman"/>
            </a:endParaRPr>
          </a:p>
        </p:txBody>
      </p:sp>
      <p:sp>
        <p:nvSpPr>
          <p:cNvPr id="124"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ll suspected homeless children and youth MUST be allowed to attend school until the dispute is settled through due process</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f a student is denied enrollment to a school, they must be given a written explanation for the denial.  This should also include an explanation of the appeal process</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Times New Roman"/>
              </a:rPr>
              <a:t>McKinney-Vento Act, Section 722(g)(3)(E)</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cKinney-Vento Act: School Choice</a:t>
            </a:r>
            <a:endParaRPr b="0" lang="en-US" sz="4400" spc="-1" strike="noStrike">
              <a:solidFill>
                <a:srgbClr val="ffcc66"/>
              </a:solidFill>
              <a:latin typeface="Times New Roman"/>
            </a:endParaRPr>
          </a:p>
        </p:txBody>
      </p:sp>
      <p:sp>
        <p:nvSpPr>
          <p:cNvPr id="126"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chool of Origin:  Where the child last attended when permanently housed</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hould attend here if in best interest, feasible</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chool in current attendance area</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cKinney-Vento Act: </a:t>
            </a:r>
            <a:br>
              <a:rPr sz="4400"/>
            </a:br>
            <a:r>
              <a:rPr b="0" lang="en-US" sz="4400" spc="-1" strike="noStrike">
                <a:solidFill>
                  <a:srgbClr val="ffcc66"/>
                </a:solidFill>
                <a:latin typeface="Times New Roman"/>
              </a:rPr>
              <a:t>Attendance &amp; Success</a:t>
            </a:r>
            <a:endParaRPr b="0" lang="en-US" sz="4400" spc="-1" strike="noStrike">
              <a:solidFill>
                <a:srgbClr val="ffcc66"/>
              </a:solidFill>
              <a:latin typeface="Times New Roman"/>
            </a:endParaRPr>
          </a:p>
        </p:txBody>
      </p:sp>
      <p:sp>
        <p:nvSpPr>
          <p:cNvPr id="128"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arental involvement</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omparable services</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ransportation</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gregation of homeless students is prohibited!  </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cKinney-Vento Liaisons</a:t>
            </a:r>
            <a:endParaRPr b="0" lang="en-US" sz="4400" spc="-1" strike="noStrike">
              <a:solidFill>
                <a:srgbClr val="ffcc66"/>
              </a:solidFill>
              <a:latin typeface="Times New Roman"/>
            </a:endParaRPr>
          </a:p>
        </p:txBody>
      </p:sp>
      <p:sp>
        <p:nvSpPr>
          <p:cNvPr id="130"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view &amp; revise policy</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ost educational rights</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Ensure: </a:t>
            </a:r>
            <a:endParaRPr b="0" lang="en-US" sz="3200" spc="-1" strike="noStrike">
              <a:solidFill>
                <a:srgbClr val="eaeaea"/>
              </a:solidFill>
              <a:latin typeface="Times New Roman"/>
            </a:endParaRPr>
          </a:p>
          <a:p>
            <a:pPr lvl="1" marL="743040" indent="-28584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dentification &amp; enrollment</a:t>
            </a:r>
            <a:endParaRPr b="0" lang="en-US" sz="2800" spc="-1" strike="noStrike">
              <a:solidFill>
                <a:srgbClr val="eaeaea"/>
              </a:solidFill>
              <a:latin typeface="Times New Roman"/>
            </a:endParaRPr>
          </a:p>
          <a:p>
            <a:pPr lvl="1" marL="743040" indent="-28584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ull &amp; equal access to services</a:t>
            </a:r>
            <a:endParaRPr b="0" lang="en-US" sz="2800" spc="-1" strike="noStrike">
              <a:solidFill>
                <a:srgbClr val="eaeaea"/>
              </a:solidFill>
              <a:latin typeface="Times New Roman"/>
            </a:endParaRPr>
          </a:p>
          <a:p>
            <a:pPr lvl="1" marL="743040" indent="-28584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Disclosure of rights to parents and unaccompanied youth, including the right to transportation</a:t>
            </a:r>
            <a:endParaRPr b="0" lang="en-US" sz="2800" spc="-1" strike="noStrike">
              <a:solidFill>
                <a:srgbClr val="eaeaea"/>
              </a:solidFill>
              <a:latin typeface="Times New Roman"/>
            </a:endParaRPr>
          </a:p>
          <a:p>
            <a:pPr lvl="1" marL="743040" indent="-28584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Mediation of disputes</a:t>
            </a:r>
            <a:endParaRPr b="0" lang="en-US" sz="2800" spc="-1" strike="noStrike">
              <a:solidFill>
                <a:srgbClr val="eaeaea"/>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arning Signs of Homelessness</a:t>
            </a: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32"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Lack of continuity in education</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ransportation &amp; attendance problems</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oor health or nutrition</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Lack of privacy or personal space after school</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ocial or behavioral concerns</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actions or statements by child or parent</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rategies for Implementation</a:t>
            </a:r>
            <a:endParaRPr b="0" lang="en-US" sz="4400" spc="-1" strike="noStrike">
              <a:solidFill>
                <a:srgbClr val="ffcc66"/>
              </a:solidFill>
              <a:latin typeface="Times New Roman"/>
            </a:endParaRPr>
          </a:p>
        </p:txBody>
      </p:sp>
      <p:sp>
        <p:nvSpPr>
          <p:cNvPr id="134" name="PlaceHolder 2"/>
          <p:cNvSpPr>
            <a:spLocks noGrp="1"/>
          </p:cNvSpPr>
          <p:nvPr>
            <p:ph/>
          </p:nvPr>
        </p:nvSpPr>
        <p:spPr>
          <a:xfrm>
            <a:off x="1218960" y="1600200"/>
            <a:ext cx="3809880" cy="4495680"/>
          </a:xfrm>
          <a:prstGeom prst="rect">
            <a:avLst/>
          </a:prstGeom>
          <a:noFill/>
          <a:ln w="0">
            <a:noFill/>
          </a:ln>
        </p:spPr>
        <p:txBody>
          <a:bodyPr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ree &amp; reduced price breakfast &amp; lunch programs</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ree textbooks</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ealth insurance</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itle I programs</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pecial Education</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Gifted Programs</a:t>
            </a:r>
            <a:endParaRPr b="0" lang="en-US" sz="2800" spc="-1" strike="noStrike">
              <a:solidFill>
                <a:srgbClr val="eaeaea"/>
              </a:solidFill>
              <a:latin typeface="Times New Roman"/>
            </a:endParaRPr>
          </a:p>
        </p:txBody>
      </p:sp>
      <p:sp>
        <p:nvSpPr>
          <p:cNvPr id="135" name="PlaceHolder 3"/>
          <p:cNvSpPr>
            <a:spLocks noGrp="1"/>
          </p:cNvSpPr>
          <p:nvPr>
            <p:ph/>
          </p:nvPr>
        </p:nvSpPr>
        <p:spPr>
          <a:xfrm>
            <a:off x="5181480" y="1600200"/>
            <a:ext cx="3810240" cy="4495680"/>
          </a:xfrm>
          <a:prstGeom prst="rect">
            <a:avLst/>
          </a:prstGeom>
          <a:noFill/>
          <a:ln w="0">
            <a:noFill/>
          </a:ln>
        </p:spPr>
        <p:txBody>
          <a:bodyPr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ransportation</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efore and after school programs</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ead Start </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ven Start</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genda</a:t>
            </a: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0"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Opening Activities</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cKinney-Vento Act: How it came to be</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Who is homeless?</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cKinney-Vento Act: What it is</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cKinney-Vento Liaisons</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trategies for implementation</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Wrap-Up</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itle I and Homelessness</a:t>
            </a:r>
            <a:r>
              <a:rPr b="0" lang="en-US" sz="4400" spc="-1" strike="noStrike">
                <a:solidFill>
                  <a:srgbClr val="ffcc66"/>
                </a:solidFill>
                <a:latin typeface="Times New Roman"/>
              </a:rPr>
              <a:t>	</a:t>
            </a: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37"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itle I application must show collaboration with McKinney-Vento Act</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itle IA funds must include a set aside amount to serve homeless students</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Times New Roman"/>
              </a:rPr>
              <a:t>Title I of the ESEA, Sec. 1113(c)(3)(A)</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itle I and Homelessness</a:t>
            </a: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39" name="PlaceHolder 2"/>
          <p:cNvSpPr>
            <a:spLocks noGrp="1"/>
          </p:cNvSpPr>
          <p:nvPr>
            <p:ph/>
          </p:nvPr>
        </p:nvSpPr>
        <p:spPr>
          <a:xfrm>
            <a:off x="1219320" y="1600200"/>
            <a:ext cx="7772400" cy="4952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set aside funds may be used to:</a:t>
            </a:r>
            <a:endParaRPr b="0" lang="en-US" sz="28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ordinate services through a designated person to make contact with homeless families, youth &amp; service providers</a:t>
            </a:r>
            <a:endParaRPr b="0" lang="en-US" sz="24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rovide outreach services</a:t>
            </a:r>
            <a:endParaRPr b="0" lang="en-US" sz="24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rovide assistance in non-Title I schools</a:t>
            </a:r>
            <a:endParaRPr b="0" lang="en-US" sz="24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rovide early childhood education programs</a:t>
            </a:r>
            <a:endParaRPr b="0" lang="en-US" sz="24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fer students to health services and counseling</a:t>
            </a:r>
            <a:endParaRPr b="0" lang="en-US" sz="24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utor, provide supplemental instruction or enriched services</a:t>
            </a:r>
            <a:endParaRPr b="0" lang="en-US" sz="24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ther assistance as needed</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eeds Assessment</a:t>
            </a: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41"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Where are the shelters in your community?  Are there any?</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What organizations in the district can help homeless youth or families?</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What issues are unique to your community?</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sources</a:t>
            </a: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43" name="PlaceHolder 2"/>
          <p:cNvSpPr>
            <a:spLocks noGrp="1"/>
          </p:cNvSpPr>
          <p:nvPr>
            <p:ph/>
          </p:nvPr>
        </p:nvSpPr>
        <p:spPr>
          <a:xfrm>
            <a:off x="1219320" y="1599840"/>
            <a:ext cx="7772400" cy="525780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Christina Endres </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u="sng">
                <a:solidFill>
                  <a:srgbClr val="ff33cc"/>
                </a:solidFill>
                <a:uFillTx/>
                <a:latin typeface="Times New Roman"/>
                <a:hlinkClick r:id="rId1"/>
              </a:rPr>
              <a:t>endres@doe.state.in.us</a:t>
            </a:r>
            <a:r>
              <a:rPr b="0" lang="en-US" sz="3200" spc="-1" strike="noStrike">
                <a:solidFill>
                  <a:srgbClr val="eaeaea"/>
                </a:solidFill>
                <a:latin typeface="Times New Roman"/>
              </a:rPr>
              <a:t> or (317) 232-0548</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Gaylon Nettles</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u="sng">
                <a:solidFill>
                  <a:srgbClr val="ff33cc"/>
                </a:solidFill>
                <a:uFillTx/>
                <a:latin typeface="Times New Roman"/>
                <a:hlinkClick r:id="rId2"/>
              </a:rPr>
              <a:t>gnettles@doe.state.in.us</a:t>
            </a:r>
            <a:r>
              <a:rPr b="0" lang="en-US" sz="3200" spc="-1" strike="noStrike">
                <a:solidFill>
                  <a:srgbClr val="eaeaea"/>
                </a:solidFill>
                <a:latin typeface="Times New Roman"/>
              </a:rPr>
              <a:t> or (317) 232-9132</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Jamie Miller, Cynthia Hurst, Sandi Stanfield</a:t>
            </a:r>
            <a:endParaRPr b="0" lang="en-US" sz="28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317) 232-0540</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ive Credit Where Credit is Due!</a:t>
            </a:r>
            <a:endParaRPr b="0" lang="en-US" sz="4400" spc="-1" strike="noStrike">
              <a:solidFill>
                <a:srgbClr val="ffcc66"/>
              </a:solidFill>
              <a:latin typeface="Times New Roman"/>
            </a:endParaRPr>
          </a:p>
        </p:txBody>
      </p:sp>
      <p:sp>
        <p:nvSpPr>
          <p:cNvPr id="102"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is training was developed with the help of: </a:t>
            </a:r>
            <a:endParaRPr b="0" lang="en-US" sz="28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ational Center for Homeless Education </a:t>
            </a:r>
            <a:endParaRPr b="0" lang="en-US" sz="24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ational Law Center on Homelessness &amp; Poverty</a:t>
            </a:r>
            <a:endParaRPr b="0" lang="en-US" sz="24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ational Association for the Education of Homeless Children &amp; Youth</a:t>
            </a:r>
            <a:endParaRPr b="0" lang="en-US" sz="24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ational Coalition for the Homeless</a:t>
            </a:r>
            <a:endParaRPr b="0" lang="en-US" sz="24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tate Coordinators, with special thanks to Shelley Reed of Maine and the homeless coordinators of New England</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Jada</a:t>
            </a:r>
            <a:endParaRPr b="0" lang="en-US" sz="4400" spc="-1" strike="noStrike">
              <a:solidFill>
                <a:srgbClr val="ffcc66"/>
              </a:solidFill>
              <a:latin typeface="Times New Roman"/>
            </a:endParaRPr>
          </a:p>
        </p:txBody>
      </p:sp>
      <p:sp>
        <p:nvSpPr>
          <p:cNvPr id="104" name="PlaceHolder 2"/>
          <p:cNvSpPr>
            <a:spLocks noGrp="1"/>
          </p:cNvSpPr>
          <p:nvPr>
            <p:ph/>
          </p:nvPr>
        </p:nvSpPr>
        <p:spPr>
          <a:xfrm>
            <a:off x="1219320" y="1600200"/>
            <a:ext cx="7772400" cy="449568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Times New Roman"/>
              </a:rPr>
              <a:t>Jada Miller, 8, has just moved in with her grandfather, Ted Jacobs, because her mother was sentenced to five years in jail and she has no place else to go. Mr. Jacobs is elderly and in poor health and does not believe he can take care of her for very long. Jada sleeps on a cot in his room.  Mr. Jacobs met with the school counselor at the local elementary school, to enroll Jada.  During the meeting, he told the counselor that he thinks Jada might have a learning disability and that she should be evaluated.  The counselor told Mr. Jacobs that he can’t enroll Jada or request special education services, because he’s not her legal guardian.</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cKinney-Vento Act</a:t>
            </a:r>
            <a:endParaRPr b="0" lang="en-US" sz="4400" spc="-1" strike="noStrike">
              <a:solidFill>
                <a:srgbClr val="ffcc66"/>
              </a:solidFill>
              <a:latin typeface="Times New Roman"/>
            </a:endParaRPr>
          </a:p>
        </p:txBody>
      </p:sp>
      <p:sp>
        <p:nvSpPr>
          <p:cNvPr id="106"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1987: Stewart B. McKinney Homeless Assistance Act</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authorized in 1990</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n 1994 placed under IASA</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2001: McKinney-Vento Act, NCLB</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Scale of Homelessness</a:t>
            </a: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8"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Up to 2 million people will experience homelessness this year</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 little over half of the people will be children and youth</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fastest growing segment of the homeless population is families</a:t>
            </a:r>
            <a:endParaRPr b="0" lang="en-US" sz="3200" spc="-1" strike="noStrike">
              <a:solidFill>
                <a:srgbClr val="eaeaea"/>
              </a:solidFill>
              <a:latin typeface="Times New Roman"/>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Times New Roman"/>
              </a:rPr>
              <a:t>National Law Center on Homelessness &amp; Poverty, 1999</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mpact on Indiana</a:t>
            </a: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10"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eaeaea"/>
              </a:solidFill>
              <a:latin typeface="Times New Roman"/>
            </a:endParaRPr>
          </a:p>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eaeaea"/>
                </a:solidFill>
                <a:latin typeface="Times New Roman"/>
              </a:rPr>
              <a:t>29,000</a:t>
            </a:r>
            <a:endParaRPr b="0" lang="en-US" sz="9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o is Homeless?</a:t>
            </a:r>
            <a:endParaRPr b="0" lang="en-US" sz="4400" spc="-1" strike="noStrike">
              <a:solidFill>
                <a:srgbClr val="ffcc66"/>
              </a:solidFill>
              <a:latin typeface="Times New Roman"/>
            </a:endParaRPr>
          </a:p>
        </p:txBody>
      </p:sp>
      <p:sp>
        <p:nvSpPr>
          <p:cNvPr id="112" name="PlaceHolder 2"/>
          <p:cNvSpPr>
            <a:spLocks noGrp="1"/>
          </p:cNvSpPr>
          <p:nvPr>
            <p:ph/>
          </p:nvPr>
        </p:nvSpPr>
        <p:spPr>
          <a:xfrm>
            <a:off x="1219320" y="1600200"/>
            <a:ext cx="7772400" cy="4495680"/>
          </a:xfrm>
          <a:prstGeom prst="rect">
            <a:avLst/>
          </a:prstGeom>
          <a:noFill/>
          <a:ln w="0">
            <a:noFill/>
          </a:ln>
        </p:spPr>
        <p:txBody>
          <a:bodyPr anchor="t">
            <a:normAutofit fontScale="99000"/>
          </a:bodyPr>
          <a:p>
            <a:pPr marL="339480" indent="-3394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n individual who lacks fixed, regular, and adequate, nighttime residence.</a:t>
            </a:r>
            <a:endParaRPr b="0" lang="en-US" sz="3200" spc="-1" strike="noStrike">
              <a:solidFill>
                <a:srgbClr val="eaeaea"/>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ncludes:</a:t>
            </a:r>
            <a:endParaRPr b="0" lang="en-US" sz="3200" spc="-1" strike="noStrike">
              <a:solidFill>
                <a:srgbClr val="eaeaea"/>
              </a:solidFill>
              <a:latin typeface="Times New Roman"/>
            </a:endParaRPr>
          </a:p>
          <a:p>
            <a:pPr marL="339480" indent="-3394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Doubled-up</a:t>
            </a:r>
            <a:endParaRPr b="0" lang="en-US" sz="3200" spc="-1" strike="noStrike">
              <a:solidFill>
                <a:srgbClr val="eaeaea"/>
              </a:solidFill>
              <a:latin typeface="Times New Roman"/>
            </a:endParaRPr>
          </a:p>
          <a:p>
            <a:pPr marL="339480" indent="-3394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Living in motels, hotels, trailer parks, or camp grounds due to lack of other housing</a:t>
            </a:r>
            <a:endParaRPr b="0" lang="en-US" sz="3200" spc="-1" strike="noStrike">
              <a:solidFill>
                <a:srgbClr val="eaeaea"/>
              </a:solidFill>
              <a:latin typeface="Times New Roman"/>
            </a:endParaRPr>
          </a:p>
          <a:p>
            <a:pPr marL="339480" indent="-3394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Living in emergency or transitional housing</a:t>
            </a:r>
            <a:endParaRPr b="0" lang="en-US" sz="3200" spc="-1" strike="noStrike">
              <a:solidFill>
                <a:srgbClr val="eaeaea"/>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144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4"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hildren in hospitals or other institutions while waiting for foster care or other permanent housing</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Living in cars, public spaces, abandoned buildings, substandard housing</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igratory children who meet the above criteria</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2T14:10:15Z</dcterms:created>
  <dc:creator>IDOE</dc:creator>
  <dc:description/>
  <dc:language>en-US</dc:language>
  <cp:lastModifiedBy>Bari, Barbara Selkirk</cp:lastModifiedBy>
  <dcterms:modified xsi:type="dcterms:W3CDTF">2012-03-28T20:20:09Z</dcterms:modified>
  <cp:revision>56</cp:revision>
  <dc:subject/>
  <dc:title>McKinney-Vento: A Key to Success</dc:title>
</cp:coreProperties>
</file>